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F1F-1E89-40FD-8E52-F572760C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84F6-FF20-4A8E-8AD9-6835F93E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192E-9C80-409C-9C0F-EC27B024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923-7BBA-403C-8B27-EC8EF5BE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F892-F59A-455B-BC14-B858E5D6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814-9D4A-40FD-B934-2B1A2D1E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8547-7F11-4628-9876-6060D747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0AB0-E98B-4126-A710-10B61897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A02C-8755-43B4-9FBA-CB7DEC2B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5E59-9369-44D0-A338-93CC289C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BD49-C62C-4F0D-9BCC-C5DFD46D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5FB-3ED2-47B2-B521-9F7914E3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DFC3-C9C4-4E92-8FF1-7B97BC728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3691135lGdOucJlFy_t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343400"/>
            <a:ext cx="9144000" cy="48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الشمس الغابت عنّا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 </a:t>
            </a: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وهالنور اللي ضاع منّ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خلّيك بدالن عنا إنتَ الشمس الما بتغي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عنّا يا يسوع لا تغي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295165XyvNDoekpU_ph" descr=""/>
          <p:cNvPicPr/>
          <p:nvPr/>
        </p:nvPicPr>
        <p:blipFill>
          <a:blip r:embed="rId1"/>
          <a:stretch/>
        </p:blipFill>
        <p:spPr>
          <a:xfrm>
            <a:off x="3200400" y="0"/>
            <a:ext cx="6934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200400" cy="10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سوع علّمني حِبَّ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ربِّ اهديني عَ درب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طول خليني بقربك يسوع يا أحلى نصي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عنّا يا يسوع لا تغيب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0715297pOlRBJDxOQ_ph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28600" y="5715000"/>
            <a:ext cx="9372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عنور صُبحك وعينا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وبنهارَك رحنا وجينا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ويا ما عا دروب مشينا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الدَربَك دربِ الصليب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عنّا يا يسوع لا تغيب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9:17:37Z</dcterms:created>
  <dc:creator>SUZANNE.MD</dc:creator>
  <dc:description/>
  <dc:language>en-US</dc:language>
  <cp:lastModifiedBy>SUZANNE.MD</cp:lastModifiedBy>
  <dcterms:modified xsi:type="dcterms:W3CDTF">2003-03-18T06:39:54Z</dcterms:modified>
  <cp:revision>1</cp:revision>
  <dc:subject/>
  <dc:title>PowerPoint Presentation</dc:title>
</cp:coreProperties>
</file>